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895-D894-45DD-99DB-888AB175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24B-877F-4BE4-896E-1D558B96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0F7-A706-4A11-9AA4-C856BE07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FCC-16AE-487A-885A-C5203804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AC8-C54C-445E-8A29-E52CD41F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5AF-3A0E-4F7E-87A0-74C9F8C8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D4B-69E2-4002-AA2F-FCD3F874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5D7-FE4C-4E0C-831E-2AF0EAFB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231-782C-491E-B565-EA0383B1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AF6-39EC-4CB0-804F-3B44FD2F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8AB-6CB3-432A-A1B2-7C0BD002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E58-282C-4FF2-829C-22A35F92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B84B-3CD1-4F45-AD3B-D840F27A3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N.A.L.C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 National d’Apprentissage des Langues Or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U.L.C.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e premie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e Ch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114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ju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N00490_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EN00490_" descr=""/>
          <p:cNvPicPr/>
          <p:nvPr/>
        </p:nvPicPr>
        <p:blipFill>
          <a:blip r:embed="rId3"/>
          <a:stretch/>
        </p:blipFill>
        <p:spPr>
          <a:xfrm>
            <a:off x="0" y="1981080"/>
            <a:ext cx="1704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31Z</dcterms:modified>
  <cp:revision>2</cp:revision>
  <dc:subject/>
  <dc:title>Présentation PowerPoint</dc:title>
</cp:coreProperties>
</file>